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535D-A8B9-4E90-BD4B-3E2A0B7F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B22-E030-459A-ADE8-59FBA38B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417-6E07-4CBD-B956-6BE3B72E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E88-E23E-494F-87FB-A3C2BE8A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0B28-618A-4297-B731-1D03A4D4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C78A-F13A-4DDE-80D7-8758033B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46EB-9E43-49AE-B160-A42F9C42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37AF-551B-4C1D-80F3-C0EBCB44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1BCD-E7F5-4FB8-9C19-480D2491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8469-AE12-423C-B594-DFA4304D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82C2-ACC6-4C12-8F90-F7B31D12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7BA-8B2F-4C47-9BDF-F646379D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DD6B-D3D6-42B1-A1C9-498E240B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2B69-052D-46A8-B50E-EC911FCE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C00E-4CD3-4301-A7A1-C3A2F392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031D-F04B-4F66-B95C-07AB04A6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1C3D-E363-4C75-970B-C902F5E3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6A7-1A09-4E33-B39F-57BBD4DC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4A7-A89C-40AD-8469-1F4A5142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1407-044B-4D3A-8052-A71C2133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C6B-9EF5-4231-B50E-40FED720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183D-CA7C-4279-95F6-4B4A71E1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D2C-48AD-4F8B-8406-A49A2A98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F82-B09D-4B4C-B952-1067D306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7572-18D3-47A4-957F-A3126938EA81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F682-389F-4CB5-BC5B-9A38F6B454D0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An overview of Land Rights and Native Title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76720" y="3505320"/>
            <a:ext cx="441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y Hammy + Ten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Understanding Native Titl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ecognition in Australian Law that Indigenous people continue to hold rights to their lands and waters that stem from their traditional laws and custom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Native Title has its source in he body of Law and custom acknowledged and observed by the claimants ancestors when Australia was colonised by Europea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Native title is like a bundle of non-exclusive rights, meaning that there is no rights to control access to, and use of the are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r example, it includes the rights to live on the area, hunt, fish, gather food or teach law and customs on the countr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Understanding Land Right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e land is not owned by the Aboriginals but share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r Europeans, the land is a commodity to be bought or sol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r Aboriginal people, the land is referred to as their moth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boriginal people are born into the responsibility to care for their land, today and with future generatio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e land is my backbone…I only stand straight, happy, proud and not ashamed about my colour because I still have land…I think of land a history of my nation” -Galarrwuy Yunipingu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5089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596916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3:36:58Z</dcterms:created>
  <dc:creator>MD Anderson Cancer Center</dc:creator>
  <dc:description/>
  <dc:language>en-US</dc:language>
  <cp:lastModifiedBy>MD Anderson Cancer Center</cp:lastModifiedBy>
  <dcterms:modified xsi:type="dcterms:W3CDTF">2010-11-25T02:37:33Z</dcterms:modified>
  <cp:revision>9</cp:revision>
  <dc:subject/>
  <dc:title>An overview of Land Rights and Native Title</dc:title>
</cp:coreProperties>
</file>